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CBB-F321-438A-8E5E-E2DF43F0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5FA-3725-45FE-AFBF-D86D5175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5F2-38A3-4FD9-9D42-9B833A1D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DDA-429A-4664-AF9D-8571AD1A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EF0-104D-4052-9162-8ED007F9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328-1172-4EE8-87B2-D55921B8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9C7-F579-46C4-81EB-3146591D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EAF-E169-40E9-AB29-D965CACA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7E0-CE29-428E-874C-314CEE9C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0D1-FE87-445A-B277-B8DD96FC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CBC-F376-4D70-98ED-9DBB32CC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296-2BBB-499D-A14F-E2653E90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A626-8C92-4C7E-A9F0-6AB263ECD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760" y="60948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erlin Sans FB Demi"/>
              </a:rPr>
              <a:t>Surface Area of a Cylind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2880" y="5257800"/>
            <a:ext cx="2895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inda O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mpton Middle Sch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638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638520" cy="4496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need to calculate the surface area of the top, base and sid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2480"/>
            <a:ext cx="2286000" cy="1191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p and base of the cylinder are both circles which are equ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276720"/>
            <a:ext cx="20574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of a circle = </a:t>
            </a:r>
            <a:r>
              <a:rPr b="0" lang="el-GR" sz="3600" spc="-1" strike="noStrike">
                <a:solidFill>
                  <a:srgbClr val="000000"/>
                </a:solidFill>
                <a:latin typeface="Brush Script MT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98108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4648320"/>
            <a:ext cx="2361960" cy="14770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and base can be written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= 2(</a:t>
            </a:r>
            <a:r>
              <a:rPr b="1" lang="el-GR" sz="3600" spc="-1" strike="noStrike">
                <a:solidFill>
                  <a:srgbClr val="000000"/>
                </a:solidFill>
                <a:latin typeface="Brush Script MT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we were to “unwrap” the sides of the cylinder, it would be a rectang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277524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16200000">
            <a:off x="5067000" y="1333440"/>
            <a:ext cx="3276720" cy="3809880"/>
          </a:xfrm>
          <a:prstGeom prst="flowChartOnlineStorag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3048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38680" y="1523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Brush Script MT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582400" y="309708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876920"/>
            <a:ext cx="6248520" cy="7855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already know that the area of a rectangle is L X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is case the width i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cylin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5667480"/>
            <a:ext cx="8686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ngth of the rectangle is actually the circumference of the cyli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Brush Script MT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6216480"/>
            <a:ext cx="5562720" cy="1191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So: A of the sides =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Brush Script MT"/>
              </a:rPr>
              <a:t>π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 two formula together and the area of a cylinder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911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 =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(</a:t>
            </a:r>
            <a:r>
              <a:rPr b="1" lang="el-GR" sz="3600" spc="-1" strike="noStrike">
                <a:solidFill>
                  <a:srgbClr val="ff0000"/>
                </a:solidFill>
                <a:latin typeface="Brush Script MT"/>
              </a:rPr>
              <a:t>π</a:t>
            </a:r>
            <a:r>
              <a:rPr b="1" lang="en-US" sz="3600" spc="-1" strike="noStrike">
                <a:solidFill>
                  <a:srgbClr val="ff0000"/>
                </a:solidFill>
                <a:latin typeface="Arial Unicode MS"/>
              </a:rPr>
              <a:t>r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 Unicode MS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Arial Unicode MS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+ </a:t>
            </a:r>
            <a:r>
              <a:rPr b="1" lang="en-US" sz="3600" spc="-1" strike="noStrike">
                <a:solidFill>
                  <a:srgbClr val="0000ff"/>
                </a:solidFill>
                <a:latin typeface="Arial Unicode MS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00ff"/>
                </a:solidFill>
                <a:latin typeface="Brush Script MT"/>
              </a:rPr>
              <a:t>π</a:t>
            </a:r>
            <a:r>
              <a:rPr b="1" lang="en-US" sz="3600" spc="-1" strike="noStrike">
                <a:solidFill>
                  <a:srgbClr val="0000ff"/>
                </a:solidFill>
                <a:latin typeface="Arial Unicode MS"/>
              </a:rPr>
              <a:t>r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191120" y="2666880"/>
            <a:ext cx="2774880" cy="3429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9880" y="4495680"/>
            <a:ext cx="15242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828800" y="3047760"/>
            <a:ext cx="350532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4724280"/>
            <a:ext cx="358128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2895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6248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14600" y="2971800"/>
            <a:ext cx="38088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2971800"/>
            <a:ext cx="30492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Try It!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surface area of the following cylin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2514600"/>
            <a:ext cx="2895840" cy="3429000"/>
          </a:xfrm>
          <a:prstGeom prst="can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289548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2971800"/>
            <a:ext cx="0" cy="2590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2514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3962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981080"/>
            <a:ext cx="594360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write out the formula of the area of a cyli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733920"/>
            <a:ext cx="388620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the parts of the cylinder that you need for the form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4572000"/>
            <a:ext cx="13716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= 10 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= 1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Brush Script MT"/>
              </a:rPr>
              <a:t>π</a:t>
            </a:r>
            <a:r>
              <a:rPr b="1" lang="en-US" sz="2000" spc="-1" strike="noStrike">
                <a:solidFill>
                  <a:srgbClr val="000000"/>
                </a:solidFill>
                <a:latin typeface="Brush Script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3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91320"/>
            <a:ext cx="350532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the substitutions into the formula and sol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5881680"/>
            <a:ext cx="50292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(</a:t>
            </a:r>
            <a:r>
              <a:rPr b="1" lang="el-GR" sz="2800" spc="-1" strike="noStrike">
                <a:solidFill>
                  <a:srgbClr val="ff0000"/>
                </a:solidFill>
                <a:latin typeface="Brush Script MT"/>
              </a:rPr>
              <a:t>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+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0000ff"/>
                </a:solidFill>
                <a:latin typeface="Brush Script MT"/>
              </a:rPr>
              <a:t>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(3.14)(1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(3.14)(10)(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971800"/>
            <a:ext cx="3352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(</a:t>
            </a:r>
            <a:r>
              <a:rPr b="1" lang="el-GR" sz="2800" spc="-1" strike="noStrike">
                <a:solidFill>
                  <a:srgbClr val="ff0000"/>
                </a:solidFill>
                <a:latin typeface="Brush Script MT"/>
              </a:rPr>
              <a:t>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0000ff"/>
                </a:solidFill>
                <a:latin typeface="Brush Script MT"/>
              </a:rPr>
              <a:t>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 =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(</a:t>
            </a:r>
            <a:r>
              <a:rPr b="1" lang="el-GR" sz="4000" spc="-1" strike="noStrike">
                <a:solidFill>
                  <a:srgbClr val="ff0000"/>
                </a:solidFill>
                <a:latin typeface="Brush Script MT"/>
              </a:rPr>
              <a:t>π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+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l-GR" sz="4000" spc="-1" strike="noStrike">
                <a:solidFill>
                  <a:srgbClr val="0000ff"/>
                </a:solidFill>
                <a:latin typeface="Brush Script MT"/>
              </a:rPr>
              <a:t>π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h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(3.14)(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(3.14)(10)(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SenteoPPTContro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200400" y="13716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13716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26668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6668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3505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28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9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6668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4572000"/>
            <a:ext cx="2057400" cy="5814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70 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Surface Area of the Cylin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2286000"/>
            <a:ext cx="1676520" cy="3962520"/>
          </a:xfrm>
          <a:prstGeom prst="can">
            <a:avLst>
              <a:gd name="adj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2819520"/>
            <a:ext cx="0" cy="3047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 c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2514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c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SenteoPPTContro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Surface Area of the Cylinder (careful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2438280"/>
            <a:ext cx="5562720" cy="205740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2666880"/>
            <a:ext cx="54864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 c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2743200"/>
            <a:ext cx="0" cy="15238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724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SenteoPPTControl1"/>
          <p:cNvGraphicFramePr/>
          <p:nvPr/>
        </p:nvGraphicFramePr>
        <p:xfrm>
          <a:off x="6413400" y="4952880"/>
          <a:ext cx="2730600" cy="19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SenteoPPTControl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13400" y="4952880"/>
                    <a:ext cx="27306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15:32:45Z</dcterms:created>
  <dc:creator>admin</dc:creator>
  <dc:description/>
  <dc:language>en-US</dc:language>
  <cp:lastModifiedBy>admin</cp:lastModifiedBy>
  <dcterms:modified xsi:type="dcterms:W3CDTF">2008-04-28T01:30:12Z</dcterms:modified>
  <cp:revision>8</cp:revision>
  <dc:subject/>
  <dc:title>Surface Area of a Cylinder </dc:title>
</cp:coreProperties>
</file>